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90A5E-2673-473D-A3BB-6098DC9963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82382-8DC9-4C5C-8C5F-A86DC01BB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DD7DB-0DD7-40D9-A9CB-6BE883582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147AF-C659-4A49-8949-25A189C25A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77BBA-FB38-43AB-AF22-23D0D757DC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A864D-EF6D-4E15-9D10-48BA139823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DF275-0A5A-4126-BC48-57FBF4868D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9252F-FE05-41C0-848F-F0BDBC3BD7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350E3-D2AB-43B4-9DB5-24E1ACFD33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D6042-2294-442E-90EA-0DD9C208EE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E1451-0EF3-4C19-BA52-B4C42A8184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14B0F-18DA-4CD9-A3A8-EA0712234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74344-5C32-4DF1-A946-A1A7B28D83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564D9-3129-4C27-BF33-C7F9463A1C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4A9B0-6627-467B-97CE-A9F378D0CD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A7451-4FD1-49C2-A7BC-B2B32727BB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13DFF-1CA7-4D67-9CF3-A69B333759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94977-275B-47E7-B992-7482B3BFB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28315-2790-4F57-AF1A-B2FBB6B7B9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A4D59-679F-4D7F-9D60-A7144E1F0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56E53-E572-4010-95A1-928FF45C5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BFEF5-B61E-41FF-B675-C05FC7FBA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D2E4A-5347-4CA7-BCCC-84F555F7A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EA609-5ACC-4B21-9E44-7F4B04E57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D38CFCB-6C91-458B-B779-5EF491AA3F4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0D68314-2619-4EF8-8C75-30B09751C0C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3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B03C68E-843F-451B-9374-38CEFBD80E6D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C206D2C-AA68-4C7F-96D5-EE220EB8D4A1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2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4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94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4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1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6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4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9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WO weeks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8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0-10-04T15:28:40Z</dcterms:modified>
  <cp:revision>338</cp:revision>
  <dc:subject/>
  <dc:title>Exploratory Data Analysis</dc:title>
</cp:coreProperties>
</file>